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12ABE-87B2-4E61-A0F7-58F39CE5A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47003-DF30-4E3F-862D-94F677F92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08D0-1CF1-4D17-8EC6-63CD3919B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A8E1-1C93-4682-A544-1BD2F5E4B2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DC6C3-0591-4389-9D1F-5D0475D6EF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482A-81CB-4132-A588-0ECE9C132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A775-28C5-44FD-9066-87E255D14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7B58-E890-45A6-83DF-3FB8A8BFA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E6A42-8FC4-41B0-986B-D866E39CA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FF83-12CB-4D7B-A09C-63D135F14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12A7-F672-44A3-B6D7-255003AD7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57B8-E3F8-4338-BA77-18717D6EE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5BE8-0F27-407A-B7E9-60DB04F282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dugains.ca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8D60-9FA1-4650-9DA3-4D4778452F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Proportional Reaso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- Guiding Questions to Discus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do you see as the important differences between the curriculum expectation and the learning go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y is it important to make this disti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94AD-D86D-4B0F-9842-02D81A58A3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E9EE-4D5C-4D66-93DE-DE661CFE5C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uiding Questions to Discus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ould you always state the learning goal at the beginning of the lesson? 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do you consider to be the characteristics of a good consolidating ques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2A57-57AB-41F8-A98E-BED67CAF87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BFF2-0E6A-4A1C-9294-B4532B522F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96F4-33EF-43C9-8DE9-F565A06309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D6BF-C3F8-418B-A487-2FE788E1EF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he importance of clearly identify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we want students to know (learning go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 will know that they learned it (consolidating ques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designing lesson frameworks by starting with learning goals and consolidating question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ore proportional reasoning concepts in curriculum docu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FF6D-43A6-4521-AAF4-E5F360ACF4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7F06-BA95-42B1-AD5C-A302415FF6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ad the article “The House” individ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highlighter to highlight </a:t>
            </a: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cilitators will visit each table before you begin reading to provide further instru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B5B9-27C8-4EF5-95B2-2DEE45E376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5B90-2D95-4335-B282-99F8A6FD46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choose what you consider to be the TOP 3 key features that you have highligh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ound Robin – each person will share their TOP 3 with a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jus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me to consensus on your table’s TOP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prepared to share and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just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9D56-7044-4D34-96C1-87B2A94106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08B1-10F1-4319-9AF0-276811CBD9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are the ‘lens’ that your table was assigned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are your TOP 3 key features of the house with jus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does this activity relate to building Learning Goals and Consolidating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6CC8-A8CA-4C1C-A20C-79A39DBB08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A24C-E75A-437C-BC0B-B4777558E1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Big Ideas and Proportional Reasoning K-1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resource on EduGAINS provides us with samples of how to create and connect Big Ideas, Curriculum Expectations, Learning Goals and Consolidation Question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dugains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CA" sz="2000" spc="-1" strike="noStrike">
                <a:solidFill>
                  <a:srgbClr val="000000"/>
                </a:solidFill>
                <a:latin typeface="Arial"/>
              </a:rPr>
              <a:t>Math GAI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i="1" lang="en-CA" sz="2000" spc="-1" strike="noStrike">
                <a:solidFill>
                  <a:srgbClr val="0000ff"/>
                </a:solidFill>
                <a:latin typeface="Arial"/>
                <a:ea typeface="Arial"/>
              </a:rPr>
              <a:t>Continuum and Connectio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→ </a:t>
            </a:r>
            <a:r>
              <a:rPr b="1" i="1" lang="en-CA" sz="2000" spc="-1" strike="noStrike">
                <a:solidFill>
                  <a:srgbClr val="ff0000"/>
                </a:solidFill>
                <a:latin typeface="Arial"/>
                <a:ea typeface="Arial"/>
              </a:rPr>
              <a:t>Big Ideas and Proportional Reasoning K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96FB-29E8-4FE3-8697-4743B82780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C2C4-2839-428A-9E1E-1A6E817CE6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3886200"/>
            <a:ext cx="3733920" cy="990720"/>
          </a:xfrm>
          <a:prstGeom prst="cloudCallout">
            <a:avLst>
              <a:gd name="adj1" fmla="val -32907"/>
              <a:gd name="adj2" fmla="val 68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et’s take a look togeth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ve to the corner of the room that we have designated for grade 9, 10, 11 or 12 and find someone within your corner who wishes to work on a common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t materials you will need: Chart Paper, Markers, Curriculum Document (hardcopy or online), access to Edu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a space to work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A8D9-FB98-41B0-93A0-565086C0C1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7EEE-B67C-4E43-9CE3-FFC194CCE2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04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20 minutes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CTIVITY: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You are designing the framework for a les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ind an expectation (or cluster of expectations) that addresses proportional reasoning in the course you have cho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n the chart paper, reco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course code and the curriculum expectation(s) cho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learning goal you would have for your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consolidating question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 of the broader context and include a statement related to the Big Idea/Enduring Understanding that is addressed by the curriculum expectation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ost your chart paper when you are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131F-E0D5-4948-B1F2-A69E2560CD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846C-EA54-4030-B364-0A5B52F6C1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allery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iew one another’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icitly look for the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onnecti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between the curriculum expectation, learning goal and consolidating question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sure to ask the ‘artists’ to explain their thinking if you hav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B2C4-3371-4DF7-A11B-E0205D3B60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0E54-1248-461E-8ADF-847EAD2F86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05T03:04:20Z</dcterms:modified>
  <cp:revision>38</cp:revision>
  <dc:subject/>
  <dc:title>&lt;Title&gt;</dc:title>
</cp:coreProperties>
</file>